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776-C5A0-47B7-B1AF-8526276D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082-AF36-40AB-9841-0DF6F67E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1CE-2772-4665-AAB6-2BD57502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690-0540-4DFB-B617-A3FAAC5E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55B-C8C3-4529-92A9-98199D75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28B-CFFE-4B0F-BCEC-263CAAB7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67A-4825-445D-8200-CE311DCA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5A4-E790-4D22-BCC4-604DF19B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234-AD55-43FD-A8EC-02C01CD6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88E-6837-4161-9BD2-7A958BEA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BD2-DB38-4A02-8560-78ED6920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C14-E898-498D-9B82-F766AF75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2E81-C0D6-4349-9AF8-F27EDAC00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3:39:16Z</dcterms:created>
  <dc:creator>Sergey</dc:creator>
  <dc:description/>
  <dc:language>en-US</dc:language>
  <cp:lastModifiedBy>Sergey</cp:lastModifiedBy>
  <dcterms:modified xsi:type="dcterms:W3CDTF">2013-03-17T13:45:42Z</dcterms:modified>
  <cp:revision>2</cp:revision>
  <dc:subject/>
  <dc:title>Слайд 1</dc:title>
</cp:coreProperties>
</file>